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64D-B3B5-4837-815D-D6191912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398-C66B-4F6A-B617-148E50F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552-928E-40DA-AC62-983A027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297-765B-4148-8F21-8151750A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5F37-E755-4B8B-99F4-6EF1E0F0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4C1-119D-4722-AB09-145353C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D60C-3EAD-4B47-BB45-E8BC9AE4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9DFB-E7C7-43D3-A732-CA2FDDE6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A3E6-FEE8-4F75-A88F-8AE79E5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7134-C6EC-417A-94D8-842A8148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678-8F9B-4EF1-A594-00ECD1A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8D6-65CD-4CE7-B7F8-00E5D87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2B62-BB22-4207-9CF5-F17D8836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DD4D-58D1-40B2-9E4B-922EB1D9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D5E-6EEF-46EA-968B-6410C25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D259-FE34-416A-9EA1-BC3EB8E4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F861-33FD-49E8-9FA1-C8BF0202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34E-90EE-4638-8F22-F5DB50D6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A00-AC83-4D20-AF0F-42424DD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6D8-B899-45B8-8910-532B3C3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98B-3351-4DBC-B926-3BF7398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A83-C7B7-4728-8C87-168DA80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4B9-AB23-4FFF-A662-3DA7D8BA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5B2-96D7-413D-BFCD-5F9CA506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EC1-3F6A-4C47-87EA-B0468D73E6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204F-BC1F-4C9A-939B-54F538D01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Types of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carry out lab investigation or fiel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llate, manipulate and analyse data from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use a model or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cide on your broad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enerate ideas for a focussed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Expectations for the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ctober 31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vember 21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cember 17,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9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0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roups chosen, broad topic decided, ideas for Focussed research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Approval Form Sub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lan submitted to IB tea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Tahoma"/>
              </a:rPr>
              <a:t>Poster D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9900"/>
                </a:solidFill>
                <a:latin typeface="Tahoma"/>
              </a:rPr>
              <a:t>Poster Presentation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velop and apply information and communication technolog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aise awareness of the moral, ethical, social, economic and environmental im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ain an appreciation for the overarching nature of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8ae"/>
                </a:solidFill>
                <a:latin typeface="Arial Black"/>
              </a:rPr>
              <a:t>Personal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User</cp:lastModifiedBy>
  <cp:lastPrinted>2009-04-22T19:24:48Z</cp:lastPrinted>
  <dcterms:modified xsi:type="dcterms:W3CDTF">2008-10-27T11:50:56Z</dcterms:modified>
  <cp:revision>45</cp:revision>
  <dc:subject/>
  <dc:title>PowerPoint Presentation</dc:title>
</cp:coreProperties>
</file>